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2F8-2C8B-4DC0-9F90-19C20B70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681-7D57-456A-AC0D-163021BF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390-A5E7-47DB-B08D-691A2B67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828-A0E5-45D0-89C4-04AFFB6F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718-2A47-4446-8772-D63C9440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100-595F-4488-B050-52106868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4F3-BAD9-4814-ACA7-7497F932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7EB-7492-41F8-9BE0-26961021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66E-F42D-4BBB-BD4F-169FAB9F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921-2825-48A8-8862-10220F76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21E-691A-4DC1-B124-A3915FB5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D23-8085-40AA-867C-F3B0AD0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32A6-CAE4-4762-8E73-E569DE227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6, DNA was first used to exonerate a man accused of murder. That year was also the first year DNA was used to conv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egan the biggest revolution 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ENSIC SC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scientific analysis of evidence for legal investig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Guanine_chemical_structure.png"/>
          <p:cNvPicPr/>
          <p:nvPr/>
        </p:nvPicPr>
        <p:blipFill>
          <a:blip r:embed="rId1"/>
          <a:stretch/>
        </p:blipFill>
        <p:spPr>
          <a:xfrm>
            <a:off x="1944720" y="1685880"/>
            <a:ext cx="52545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Adenine_chemical_structure.png"/>
          <p:cNvPicPr/>
          <p:nvPr/>
        </p:nvPicPr>
        <p:blipFill>
          <a:blip r:embed="rId1"/>
          <a:stretch/>
        </p:blipFill>
        <p:spPr>
          <a:xfrm>
            <a:off x="2800440" y="1685880"/>
            <a:ext cx="35431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all carbon rings with varying single and double bonds. The “C” is usually omitted when writing organic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bonds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valent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means that the electrons are being shared between each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double bonds found in cy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double bond contains four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en single bonds found in cy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ingle bond contains two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dna_bases.gif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phosphate.jpg"/>
          <p:cNvPicPr/>
          <p:nvPr/>
        </p:nvPicPr>
        <p:blipFill>
          <a:blip r:embed="rId1"/>
          <a:stretch/>
        </p:blipFill>
        <p:spPr>
          <a:xfrm>
            <a:off x="2590920" y="1828800"/>
            <a:ext cx="42670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xyribose sug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deoxyribose sugar.jpg"/>
          <p:cNvPicPr/>
          <p:nvPr/>
        </p:nvPicPr>
        <p:blipFill>
          <a:blip r:embed="rId1"/>
          <a:stretch/>
        </p:blipFill>
        <p:spPr>
          <a:xfrm>
            <a:off x="3041640" y="2674800"/>
            <a:ext cx="3060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mer: a single unit containing a phosphate group, and the deoxyribose sug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onomers are then repeated and linked in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nucleotid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mer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are held together with covalent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ar-phosphate backb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backbone II.jpg"/>
          <p:cNvPicPr/>
          <p:nvPr/>
        </p:nvPicPr>
        <p:blipFill>
          <a:blip r:embed="rId1"/>
          <a:stretch/>
        </p:blipFill>
        <p:spPr>
          <a:xfrm>
            <a:off x="1219320" y="2209680"/>
            <a:ext cx="48956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es then hang off these like half rungs of a 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ucleotides are then linked together in the famou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double heli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technology is used in genetically modified food (corn), medicine and agri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stands for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oxyribo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cleic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huge molecules with molecular weights of 6 million – 16 million a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e pairs held together by hydrogen bonding which are weaker than coval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hydrogen bonded dna.gif"/>
          <p:cNvPicPr/>
          <p:nvPr/>
        </p:nvPicPr>
        <p:blipFill>
          <a:blip r:embed="rId1"/>
          <a:stretch/>
        </p:blipFill>
        <p:spPr>
          <a:xfrm>
            <a:off x="3533760" y="2440080"/>
            <a:ext cx="2076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5" descr="double helix.jpg"/>
          <p:cNvPicPr/>
          <p:nvPr/>
        </p:nvPicPr>
        <p:blipFill>
          <a:blip r:embed="rId1"/>
          <a:stretch/>
        </p:blipFill>
        <p:spPr>
          <a:xfrm>
            <a:off x="3048120" y="220968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double helix II.jpg"/>
          <p:cNvPicPr/>
          <p:nvPr/>
        </p:nvPicPr>
        <p:blipFill>
          <a:blip r:embed="rId1"/>
          <a:stretch/>
        </p:blipFill>
        <p:spPr>
          <a:xfrm>
            <a:off x="3276720" y="228600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ouble helix III.jpg"/>
          <p:cNvPicPr/>
          <p:nvPr/>
        </p:nvPicPr>
        <p:blipFill>
          <a:blip r:embed="rId1"/>
          <a:stretch/>
        </p:blipFill>
        <p:spPr>
          <a:xfrm>
            <a:off x="2895480" y="2209680"/>
            <a:ext cx="275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double helix iv.jpg"/>
          <p:cNvPicPr/>
          <p:nvPr/>
        </p:nvPicPr>
        <p:blipFill>
          <a:blip r:embed="rId1"/>
          <a:stretch/>
        </p:blipFill>
        <p:spPr>
          <a:xfrm>
            <a:off x="2835360" y="1600200"/>
            <a:ext cx="347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gene.jpg"/>
          <p:cNvPicPr/>
          <p:nvPr/>
        </p:nvPicPr>
        <p:blipFill>
          <a:blip r:embed="rId1"/>
          <a:stretch/>
        </p:blipFill>
        <p:spPr>
          <a:xfrm>
            <a:off x="2666880" y="233856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one of the tw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und in eukaryote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ther is RNA: 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nam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y are found inside the nucleus 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NOT GET THIS NUCLEUS CONFUSED WITH THE NUCLEUS OF THE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a molecule made up of compounds which are made up of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lements making up DNA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elements combine chemically to form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parts to a DN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ot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clud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base pair containing nit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phosphat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 sugar group (deoxyribose for DNA, ribose for 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gar and phosphate groups are the same in each of the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fference will be in the nitrogen b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de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ua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ym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yto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5" descr="basemolecules.gif"/>
          <p:cNvPicPr/>
          <p:nvPr/>
        </p:nvPicPr>
        <p:blipFill>
          <a:blip r:embed="rId1"/>
          <a:stretch/>
        </p:blipFill>
        <p:spPr>
          <a:xfrm>
            <a:off x="2508120" y="1600200"/>
            <a:ext cx="412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cytosine-chemical-structure.png"/>
          <p:cNvPicPr/>
          <p:nvPr/>
        </p:nvPicPr>
        <p:blipFill>
          <a:blip r:embed="rId1"/>
          <a:stretch/>
        </p:blipFill>
        <p:spPr>
          <a:xfrm>
            <a:off x="3276720" y="205740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Thymine_chemical_structure.png"/>
          <p:cNvPicPr/>
          <p:nvPr/>
        </p:nvPicPr>
        <p:blipFill>
          <a:blip r:embed="rId1"/>
          <a:stretch/>
        </p:blipFill>
        <p:spPr>
          <a:xfrm>
            <a:off x="2638440" y="1785960"/>
            <a:ext cx="38671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2:34:36Z</dcterms:created>
  <dc:creator>jmngying</dc:creator>
  <dc:description/>
  <dc:language>en-US</dc:language>
  <cp:lastModifiedBy>jwwaknin</cp:lastModifiedBy>
  <dcterms:modified xsi:type="dcterms:W3CDTF">2011-06-09T17:52:27Z</dcterms:modified>
  <cp:revision>21</cp:revision>
  <dc:subject/>
  <dc:title>STEM PROJECT</dc:title>
</cp:coreProperties>
</file>